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91358"/>
        <c:axId val="92012383"/>
      </c:barChart>
      <c:catAx>
        <c:axId val="68691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12383"/>
        <c:crosses val="autoZero"/>
        <c:auto val="1"/>
        <c:lblAlgn val="ctr"/>
        <c:lblOffset val="100"/>
        <c:noMultiLvlLbl val="0"/>
      </c:catAx>
      <c:valAx>
        <c:axId val="92012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91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205-95FB-4A4B-93F2-C3C3FD15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400-C62D-4B46-BF16-89D01394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D9D-ED57-429C-B4DE-417225FE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BBD-FB88-4749-A290-2DBC57FE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661-2FBB-4D3D-9243-B06B27D9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B3B-C241-4857-9A9A-B9A442DA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4A0-A1F9-4C42-88E8-5FBA43E2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307-317D-43E8-BCF8-3AF7C4E0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A42-0287-495D-BEC4-8D46E168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7DA1-18D8-4247-BD08-CE45D225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73D-89D3-492B-A9CD-F3E4BB62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0AF-8164-41D8-BEA1-9CB00372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1C5AD-6334-45DE-9159-DED462738D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