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0196"/>
        <c:axId val="40434467"/>
      </c:barChart>
      <c:catAx>
        <c:axId val="2220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34467"/>
        <c:crosses val="autoZero"/>
        <c:auto val="1"/>
        <c:lblAlgn val="ctr"/>
        <c:lblOffset val="100"/>
        <c:noMultiLvlLbl val="0"/>
      </c:catAx>
      <c:valAx>
        <c:axId val="40434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0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623-FFC7-45E6-9BDC-8F9620EA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482-39D7-4455-94C4-BB7EAC89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74B-17EC-4D7F-A752-76E8401F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71A-DDD4-4020-9537-3386F279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9A1-BF26-4BCE-8C9A-52A6866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8E6-CA8C-4144-B6A7-204E6DD9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E0E-3555-4C5A-BE8A-5C7852E4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902-1EE9-4BF5-B7BD-5551048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557-FB27-42E1-AB5B-29F1F68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0CF-659F-492A-AA15-652AA10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BDF-4789-49CA-A202-62D2443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623-F179-42EE-B20F-010ACB3B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B0BB8-0157-4D4E-9379-150C72DB7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