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31859"/>
        <c:axId val="47546767"/>
      </c:barChart>
      <c:catAx>
        <c:axId val="646318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46767"/>
        <c:crosses val="autoZero"/>
        <c:auto val="1"/>
        <c:lblAlgn val="ctr"/>
        <c:lblOffset val="100"/>
        <c:noMultiLvlLbl val="0"/>
      </c:catAx>
      <c:valAx>
        <c:axId val="47546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318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72D-6EE7-40C2-92E7-9987E720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9F6-DDAB-4333-9DC3-93BA1DEF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13E-7897-4FDD-A0DD-A51EDC2C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184E-820F-45B3-B498-0117BBE2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330-564D-42DE-B0DC-6D1CB67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CDBF-3CB9-43DF-B45B-81DCC7C7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1E6-BAC3-4026-9EF8-020F88E4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391-4447-4603-99AD-6B66E44C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83D8-B213-4695-AFCE-E80E7C55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0B05-6FA2-4F2E-BC90-D58BF3E9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4AF-CAF9-48BC-ACB4-B428343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9AD-01FE-4AC3-969E-E19D384B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A0F8C-2087-4EC9-8C92-157E0B7219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