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2383"/>
        <c:axId val="8553216"/>
      </c:barChart>
      <c:catAx>
        <c:axId val="22832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3216"/>
        <c:crosses val="autoZero"/>
        <c:auto val="1"/>
        <c:lblAlgn val="ctr"/>
        <c:lblOffset val="100"/>
        <c:noMultiLvlLbl val="0"/>
      </c:catAx>
      <c:valAx>
        <c:axId val="8553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2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E36-34DC-4FD3-AC42-01571A22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CD1-59F3-4676-A1B5-5A9074C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C1E-0C52-4569-967F-B99D6B57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4C0-4CC9-4DD6-960B-0C3D180F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69F-82AD-4012-B246-8415D8D8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B12-9788-46DB-B8ED-363146E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A8B-EF0D-474F-983F-DBFB83F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968-167D-43BC-9AD0-4790E46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215-6B18-43AE-8E1B-B1D079A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061-0DDB-4EDD-A798-4BB8C64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0E0-BA81-4E99-98EA-EDDCEB8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F60-6FE4-4C04-9D4D-886B3657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762EF-6A3B-4626-9D01-7BD077A0F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