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8878453"/>
        <c:axId val="63427349"/>
      </c:barChart>
      <c:catAx>
        <c:axId val="588784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427349"/>
        <c:crosses val="autoZero"/>
        <c:auto val="1"/>
        <c:lblAlgn val="ctr"/>
        <c:lblOffset val="100"/>
        <c:noMultiLvlLbl val="0"/>
      </c:catAx>
      <c:valAx>
        <c:axId val="634273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8784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38CC-80A4-4CBD-94C9-C6FE0352F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A6D2E-385F-4DC0-8CE9-283C2733C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1F8B-5ED8-4872-8968-620B6FC1A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AF3EC-2FA8-4FED-BFEA-612EA85D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F7E8-4E41-480F-8945-C94224BE6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AE5B-7FC6-46FF-B83F-C92698C0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9FF4-7EDB-4B5A-B146-AB5F5FB9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4C75-4BA1-4794-B5EF-773E59FC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C1F1-52F5-45F2-B9BC-B2181C707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BBEA-C064-478E-9E67-0CFD6DDC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ADF-0F99-4304-B9FE-6FCB10686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B7B1-A863-406C-901F-4B1EB3B3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C3374-7A25-4471-AB11-F7F54338F34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