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232558"/>
        <c:axId val="63904134"/>
      </c:barChart>
      <c:catAx>
        <c:axId val="942325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04134"/>
        <c:crosses val="autoZero"/>
        <c:auto val="1"/>
        <c:lblAlgn val="ctr"/>
        <c:lblOffset val="100"/>
        <c:noMultiLvlLbl val="0"/>
      </c:catAx>
      <c:valAx>
        <c:axId val="639041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325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9BF7-8AB1-436B-8CBE-99DF59F3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3501-3BA7-4906-88C6-FD8B7580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2CEA-A79A-42CF-B55C-2C6F92CA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D8FA-7DAB-48D9-B7CB-1D62831B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58BB-9EB1-4C41-BD73-DA410759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F9D-2E42-4D2E-87F8-AA1FEEFD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C81B-A738-4349-9C5B-83D2F570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7971-D4DC-497D-9A3A-E579C61F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B0B8-4D34-4051-B7E9-851E24E6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64EA-DD6C-4B05-B4B2-296366C9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DAEB-6758-4FA6-A77E-FB9DD098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8748-4736-474D-AB28-5AC8AA7A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7C744-20AC-4C03-8BF1-07C73446FE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