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862329"/>
        <c:axId val="84559678"/>
      </c:barChart>
      <c:catAx>
        <c:axId val="648623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59678"/>
        <c:crosses val="autoZero"/>
        <c:auto val="1"/>
        <c:lblAlgn val="ctr"/>
        <c:lblOffset val="100"/>
        <c:noMultiLvlLbl val="0"/>
      </c:catAx>
      <c:valAx>
        <c:axId val="845596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623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2016-FB51-449B-9834-8E5C34427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5F75-F8C3-4950-91C9-ECF4E2BA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940C-438F-4082-8F50-2AF1C377F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0A09-43CA-4741-9623-A2EE5DD07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F93D-0F6B-4D15-BEC6-073895C8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5612-E5E5-4FF9-9311-476F6809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FB68-E9B9-4805-A481-9937FACD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8520-8089-4E51-AA2C-825E14C1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B028-6FA5-4BC7-AC76-BE4DB006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EED3-1DAA-409D-A7A9-D8A63031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F44D-7217-48C5-B7A1-57021B37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7895-0496-4E2C-BCE5-71F32826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7B50B-97C6-4948-AE55-5C440C4250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