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14687"/>
        <c:axId val="79478627"/>
      </c:barChart>
      <c:catAx>
        <c:axId val="43514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8627"/>
        <c:crosses val="autoZero"/>
        <c:auto val="1"/>
        <c:lblAlgn val="ctr"/>
        <c:lblOffset val="100"/>
        <c:noMultiLvlLbl val="0"/>
      </c:catAx>
      <c:valAx>
        <c:axId val="79478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4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010-F6EC-495E-8C68-24621A52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FE3-A7F5-4E7D-BEE2-990A7D33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169-889D-4C95-A1EE-EA04F874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A52-9188-4B96-8A7D-C5FDC012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D18-1450-4814-AF5A-1AF8275C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579-4B4D-4544-BCA3-C1254FEA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362-4D24-4F94-9FF3-358D538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B88-38A4-4EC0-BD64-B25F08F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43A-F54F-4C86-9D95-C25FDAF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6DE-2041-4291-A7D7-65D0528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12F-9D0C-4DCB-A32A-B3CEAD5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D17-AECD-47D5-BECA-C498A35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58BC4-E917-4971-8CF5-FCC7FB21C1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