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41757"/>
        <c:axId val="47333653"/>
      </c:barChart>
      <c:catAx>
        <c:axId val="460417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33653"/>
        <c:crosses val="autoZero"/>
        <c:auto val="1"/>
        <c:lblAlgn val="ctr"/>
        <c:lblOffset val="100"/>
        <c:noMultiLvlLbl val="0"/>
      </c:catAx>
      <c:valAx>
        <c:axId val="473336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417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3BDF-5E54-4C14-80C9-B623851D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C01-7BB7-486A-8DB1-BC4B9B51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20F3-28EE-4D5F-A454-0ABA65D2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C4E-A375-44B6-99F2-0299E94E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CD54-6C18-4177-8ED9-97D4BBB2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34D-45C4-4E9A-942B-B058F215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00D-64BB-4635-A1AF-EF38F19B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4C2-2A8A-4D80-A392-CF6679D2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527-533B-4D12-8760-7E888B4D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FC3-35FC-4D26-A06D-52C3780D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5EE3-3B3C-4562-B13C-7B79CBF8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CB2E-E0DA-4025-B51B-1F6DA32A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82122-8ACC-4019-92BF-D6D16EBD45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