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31273"/>
        <c:axId val="62902"/>
      </c:barChart>
      <c:catAx>
        <c:axId val="31631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02"/>
        <c:crosses val="autoZero"/>
        <c:auto val="1"/>
        <c:lblAlgn val="ctr"/>
        <c:lblOffset val="100"/>
        <c:noMultiLvlLbl val="0"/>
      </c:catAx>
      <c:valAx>
        <c:axId val="62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31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8E7-DB40-4F69-8204-1969BF37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EFF-3536-4CC7-A71A-93AE981D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727-DC52-4862-BD51-4A841F9D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E33-744C-48E8-BA15-56DF176C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47F-3404-4DE5-A629-2BE607AC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80B-94A7-4541-B0F7-81C96D9C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224-9010-40EB-AAFA-412D2407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FC0-5A57-473C-9960-D483234F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430-F07B-4933-B62A-F3263241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EF3-A4A5-43E9-B5E3-F65E210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3EF-3098-4343-B3D2-094A1CB7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9E1-EA9D-4CD1-BCE2-5CF4E767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4D6DA-E72F-4560-A2B1-C0348F5E85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